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F44-AE55-4016-8F51-5AD9872F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1823-3CE2-4226-8A8E-E8240F5C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DBD-7BBE-4C24-AACE-8A4AADE2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26A-2123-403C-BBCC-5B864CC2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BEFC-0D50-410E-8022-A92C0C04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7995-28BC-4CE9-B469-A036EDC4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D1E-7585-43C5-9D2F-32AD1EE2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93C-E04F-4C65-9EAA-0B75054A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659-5FEC-4530-81B9-1328EA3E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67F-24E9-4AEB-BFDD-25922CFD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F7F-E5D4-46E1-B9A9-9F7957E3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18F9-8A45-4A82-A30D-42D2D435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3551-AD5E-4EF4-A9F3-7081FF6B4FF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roblems_with_dirty_oil_in_Madagascar" TargetMode="External"/><Relationship Id="rId2" Type="http://schemas.openxmlformats.org/officeDocument/2006/relationships/hyperlink" Target="http://eewiki.newint.org/index.php/Slavery_in_Mauritania" TargetMode="External"/><Relationship Id="rId3" Type="http://schemas.openxmlformats.org/officeDocument/2006/relationships/hyperlink" Target="http://eewiki.newint.org/index.php/Indonesians_won%27t_stop_fightin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518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How much do you know about the worl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98989"/>
                </a:solidFill>
                <a:latin typeface="Calibri"/>
              </a:rPr>
              <a:t>Decide a) which country, 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98989"/>
                </a:solidFill>
                <a:latin typeface="Calibri"/>
              </a:rPr>
              <a:t>b) which global justice iss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98989"/>
                </a:solidFill>
                <a:latin typeface="Calibri"/>
              </a:rPr>
              <a:t>for each of the pho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15840" y="260280"/>
            <a:ext cx="2976480" cy="187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020000" y="4033800"/>
            <a:ext cx="1893960" cy="2651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3247920" y="333360"/>
            <a:ext cx="3170520" cy="2014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4"/>
          <a:stretch/>
        </p:blipFill>
        <p:spPr>
          <a:xfrm>
            <a:off x="162000" y="4923000"/>
            <a:ext cx="2732040" cy="172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6539040" y="260280"/>
            <a:ext cx="242712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3780000" y="4925880"/>
            <a:ext cx="263844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3529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untries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413000"/>
            <a:ext cx="40402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dagasc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urit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ietn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n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0000" y="115560"/>
            <a:ext cx="48956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bal justice issu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00720" y="1413000"/>
            <a:ext cx="43192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il or fores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e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a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urism/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ri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447920" y="2440080"/>
            <a:ext cx="4109760" cy="261144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10" descr=""/>
          <p:cNvPicPr/>
          <p:nvPr/>
        </p:nvPicPr>
        <p:blipFill>
          <a:blip r:embed="rId2"/>
          <a:stretch/>
        </p:blipFill>
        <p:spPr>
          <a:xfrm>
            <a:off x="250920" y="144360"/>
            <a:ext cx="3531960" cy="223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5796000" y="2443320"/>
            <a:ext cx="2954160" cy="185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11160" y="3610080"/>
            <a:ext cx="2222280" cy="3111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5157720" y="4492800"/>
            <a:ext cx="3746520" cy="223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/>
          <p:cNvPicPr/>
          <p:nvPr/>
        </p:nvPicPr>
        <p:blipFill>
          <a:blip r:embed="rId6"/>
          <a:stretch/>
        </p:blipFill>
        <p:spPr>
          <a:xfrm>
            <a:off x="5506920" y="144360"/>
            <a:ext cx="32432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50920" y="-100080"/>
            <a:ext cx="2376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92000" y="476280"/>
            <a:ext cx="7343640" cy="62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dagascar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© Ben Stansall/Alamy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il or fores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Read more: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Problems_with_dirty_oil_in_Madagasca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uritania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300td.org / Creative Commons Licence)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Read more: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ewiki.newint.org/index.php/Slavery_in_Mauritani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onesia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World Development Movement)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GB" sz="800" spc="-1" strike="noStrike">
                <a:solidFill>
                  <a:srgbClr val="000000"/>
                </a:solidFill>
                <a:latin typeface="Calibri"/>
              </a:rPr>
              <a:t>Read more: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eewiki.newint.org/index.php/Indonesians_won%27t_stop_figh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ietnam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Didem Tali)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urism/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Read more: http://eewiki.newint.org/index.php/%22The_beach_is_for_tourists%22_-_Vietnamese_workers_can%27t_enjoy_the_su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ia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Babu Babu / Reuters) </a:t>
            </a:r>
            <a:r>
              <a:rPr b="0" i="1" lang="en-GB" sz="3600" spc="-1" strike="noStrike">
                <a:solidFill>
                  <a:srgbClr val="000000"/>
                </a:solidFill>
                <a:latin typeface="Calibri"/>
              </a:rPr>
              <a:t>Inequa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Read more:  http://eewiki.newint.org/index.php/The_rich_in_Indi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enya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800" spc="-1" strike="noStrike">
                <a:solidFill>
                  <a:srgbClr val="000000"/>
                </a:solidFill>
                <a:latin typeface="Calibri"/>
              </a:rPr>
              <a:t>Socialstarclub.com under a Creative Commons Licence)  </a:t>
            </a:r>
            <a:r>
              <a:rPr b="0" i="1" lang="en-GB" sz="3600" spc="-1" strike="noStrike">
                <a:solidFill>
                  <a:srgbClr val="000000"/>
                </a:solidFill>
                <a:latin typeface="Calibri"/>
              </a:rPr>
              <a:t>Discrimin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Read more:  http://eewiki.newint.org/index.php/Women_with_disabilities_have_two_big_problems_%E2%80%93_their_disability_and_their_gend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4"/>
          <a:stretch/>
        </p:blipFill>
        <p:spPr>
          <a:xfrm>
            <a:off x="-42840" y="189000"/>
            <a:ext cx="1654200" cy="105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5"/>
          <a:stretch/>
        </p:blipFill>
        <p:spPr>
          <a:xfrm>
            <a:off x="0" y="1392120"/>
            <a:ext cx="1568520" cy="99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49320" y="5661000"/>
            <a:ext cx="166536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7"/>
          <a:stretch/>
        </p:blipFill>
        <p:spPr>
          <a:xfrm>
            <a:off x="7812000" y="4548240"/>
            <a:ext cx="908280" cy="1271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8"/>
          <a:stretch/>
        </p:blipFill>
        <p:spPr>
          <a:xfrm>
            <a:off x="-144360" y="2492280"/>
            <a:ext cx="1874880" cy="1119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9"/>
          <a:stretch/>
        </p:blipFill>
        <p:spPr>
          <a:xfrm>
            <a:off x="-144360" y="3859200"/>
            <a:ext cx="18748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5T09:59:48Z</dcterms:created>
  <dc:creator>Linda Ruas</dc:creator>
  <dc:description/>
  <dc:language>en-US</dc:language>
  <cp:lastModifiedBy>Linda Ruas</cp:lastModifiedBy>
  <dcterms:modified xsi:type="dcterms:W3CDTF">2014-05-25T11:52:04Z</dcterms:modified>
  <cp:revision>14</cp:revision>
  <dc:subject/>
  <dc:title>Quiz about the world</dc:title>
</cp:coreProperties>
</file>